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70D-92E0-4520-8D26-E4659C64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F13-A6F0-4587-A17F-F3C574DB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509-FE92-4CF8-A68A-541247DB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A23F-02F3-4BB2-B9E1-F4A767B0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ass out learning style inventory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, “What type of learning style best describes you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83B-CA1E-49AE-A351-10A5E949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ow learning style inventories online; pass out learning style inven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BA5-8F53-4910-BF80-4D1F73316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6B9-347C-4F92-9821-2ED9E613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D337-460E-4142-B772-76ADBB4C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AF0-F054-4C8F-9064-B772EFC8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F18-4778-4308-93CC-F10C364A5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CD8-4DC7-4CD5-B9F6-3E0BA65E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353-8A52-4D7E-AE70-D31C0DCC6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077-A58E-424F-B638-640A7BC6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566-8A67-42D6-B2C4-ADFA62F4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4EEF-C4F7-47DA-A7A6-E89BFFF6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854-3378-4354-8323-829060D60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0E6-8E78-448E-BE31-F7153F9A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D51B-63AF-4358-BECD-E24E29FB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D4FF-FF89-489E-BEBB-A6FBCC75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13D-5FDB-4BAB-BD03-DE67E3A4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35B-CB87-4C99-A7E8-1D649D64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7A9-E1C1-4057-863F-E70FEAA4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BCC-A3C2-4B1A-AF52-8C335F9E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0E45-A6F4-425C-AFE4-131E3F5D8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701-9C4B-40BF-B416-7920A2CE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5466-0D09-4D3D-9B58-2E4F6EB4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CF80-1206-4769-AB85-449726D2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5442-1984-48AF-AA90-5EE33B8A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84B-0AAD-467D-B264-E39D0461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DFF-1FFB-4380-8F8D-6FF2CD78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2F69-1429-434F-A3AA-9C329C8ED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E0A-B49D-4E8B-9430-46D99487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C5-84EE-4FAA-9B4D-BB617BB8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265-0C9A-4834-8834-91865936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6BF-3A92-4FAB-B6DB-762D8AC6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EED-7779-473E-A868-F293F8E5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F3AE-E918-4830-9171-B79F1E25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BDB-E672-48D9-8E9F-7284FA1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DE1-63F8-47C3-BF5D-DDC98708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CB9A-E74D-4BB3-8483-65261EF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39FF-407D-4928-A974-2847F20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AD6-C20D-470B-95C7-8C205E6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5E-66C9-44A8-837A-0B99E39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1988-4FBE-48C8-85B9-8EB5D7E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06BF-4227-4D5E-81B7-0959615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6989-53DE-44CB-ACCC-01CB067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2282-637B-445F-BFAA-6D9DBFBD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D2F2-9424-49FA-80FA-7C70E52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FB2-695F-426A-8405-FC97CA33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E76-EA1A-489A-8CA4-89047028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3EA-D168-4669-AD0A-7CD7167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6D1-C6CD-44B6-BDB7-6599CB5A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C2F-C409-40D3-AB75-FD79E1E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448-B69A-4D82-AA20-63837FB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765-60C4-4FA2-9C95-63AF0C8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6CF-7659-4699-AE7B-5C088072499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WEB\IMAGES\OBJECTS\SNEAKERS\QGO50002.GIF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:\WEB\IMAGES\OBJECTS\SNEAKERS\QGO50007.GIF"/>
          <p:cNvPicPr/>
          <p:nvPr/>
        </p:nvPicPr>
        <p:blipFill>
          <a:blip r:embed="rId3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E:\WEB\IMAGES\OBJECTS\SNEAKERS\QGO50003.GIF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E:\WEB\IMAGES\OBJECTS\SNEAKERS\QGO50001.GIF"/>
          <p:cNvPicPr/>
          <p:nvPr/>
        </p:nvPicPr>
        <p:blipFill>
          <a:blip r:embed="rId5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WEB\IMAGES\OBJECTS\SNEAKERS\QGO50003.GIF"/>
          <p:cNvPicPr/>
          <p:nvPr/>
        </p:nvPicPr>
        <p:blipFill>
          <a:blip r:embed="rId2"/>
          <a:stretch/>
        </p:blipFill>
        <p:spPr>
          <a:xfrm>
            <a:off x="616284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WEB\IMAGES\OBJECTS\SNEAKERS\QGO50002.GIF"/>
          <p:cNvPicPr/>
          <p:nvPr/>
        </p:nvPicPr>
        <p:blipFill>
          <a:blip r:embed="rId3"/>
          <a:stretch/>
        </p:blipFill>
        <p:spPr>
          <a:xfrm>
            <a:off x="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E:\WEB\IMAGES\OBJECTS\SNEAKERS\QGO50007.GIF"/>
          <p:cNvPicPr/>
          <p:nvPr/>
        </p:nvPicPr>
        <p:blipFill>
          <a:blip r:embed="rId4"/>
          <a:stretch/>
        </p:blipFill>
        <p:spPr>
          <a:xfrm>
            <a:off x="0" y="387684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:\WEB\IMAGES\OBJECTS\SNEAKERS\QGO50001.GIF"/>
          <p:cNvPicPr/>
          <p:nvPr/>
        </p:nvPicPr>
        <p:blipFill>
          <a:blip r:embed="rId5"/>
          <a:stretch/>
        </p:blipFill>
        <p:spPr>
          <a:xfrm>
            <a:off x="6162840" y="3876840"/>
            <a:ext cx="298116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89B-0EFA-4D3F-A556-F8D742C20EA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tc.coe.uga.edu/surveys/LearningStyleInv.html" TargetMode="External"/><Relationship Id="rId2" Type="http://schemas.openxmlformats.org/officeDocument/2006/relationships/hyperlink" Target="http://www.greenville.k12.sc.us/hillcrm/lstyles/lsurvey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jc-schools.net/tutorials/vocab/strategi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858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Effectively Differentiate Instruction for </a:t>
            </a: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All Learning Styles with EduSmart Scien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189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earn better by listening to explanations than by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ading about th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llow spoken directions well, but have troubl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llowing written dire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ad slowly and prefer to read out lou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njoy oral discussions, working in group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and giv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a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re good at explain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alk to themselves while learning something ne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eed to have things explained or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an’t keep quiet for long periods of ti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2db9"/>
                </a:solidFill>
                <a:uFillTx/>
                <a:latin typeface="Arial"/>
                <a:ea typeface="Arial"/>
              </a:rPr>
              <a:t>Characteristics of Auditory Learne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 rot="20956200">
            <a:off x="6157800" y="1084320"/>
            <a:ext cx="582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le 1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8004"/>
                </a:solidFill>
                <a:uFillTx/>
                <a:latin typeface="Arial"/>
              </a:rPr>
              <a:t>Characteristics of Tactile/ Kinesthetic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2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process information best through “hands on”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experiences and whole body mov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science labs, role playing and building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have trouble sitting still, but writing things down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makes learning easi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adventure books and movi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to move around while listening or tal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talk with their han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remember by recalling who did w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buClr>
                <a:srgbClr val="fc80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like to touch things in order to lear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about th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Picture 6" descr="C:\Users\dockensf\AppData\Local\Microsoft\Windows\Temporary Internet Files\Content.IE5\QFR562QU\MPj04332360000[1].jpg"/>
          <p:cNvPicPr/>
          <p:nvPr/>
        </p:nvPicPr>
        <p:blipFill>
          <a:blip r:embed="rId1"/>
          <a:stretch/>
        </p:blipFill>
        <p:spPr>
          <a:xfrm>
            <a:off x="7315200" y="1143000"/>
            <a:ext cx="8683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240" y="182844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65% of students are predominantly visual 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20%-30% of students are predominantly auditory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0d06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5%-15% of students are predominantly tactile/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kinesthetic 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0d065"/>
                </a:solidFill>
                <a:latin typeface="Arial"/>
                <a:ea typeface="Arial"/>
              </a:rPr>
              <a:t>learner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38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</a:rPr>
              <a:t>Learning styles research show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盤ﲔ㶡閩盟隌盟障盟"/>
          <p:cNvPicPr/>
          <p:nvPr/>
        </p:nvPicPr>
        <p:blipFill>
          <a:blip r:embed="rId1"/>
          <a:stretch/>
        </p:blipFill>
        <p:spPr>
          <a:xfrm>
            <a:off x="1752480" y="4191120"/>
            <a:ext cx="2819520" cy="2479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5410080" y="441972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an you determine a student’s predominant learning sty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Learning Style Invento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onlin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tc.coe.uga.edu/surveys/LearningStyleInv.htm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intabl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greenville.k12.sc.us/hillcrm/lstyles/lsurvey.ht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1143000" y="7621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Think- Write- Pair- Comp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066680" y="17524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5d"/>
                </a:solidFill>
                <a:latin typeface="Arial"/>
              </a:rPr>
              <a:t>How can this information be used to enhance instruction and impact student achie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600200" y="2703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Think for 30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Write down your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Pair with a partner and take turns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sharing for 30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Group share with those at your table for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1 minute, taking 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6165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Choose 1 group observation to share 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6165d"/>
                </a:solidFill>
                <a:latin typeface="Arial"/>
              </a:rPr>
              <a:t>with the whole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Let’s take a quick break!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Instructional Strategies that are Effective for All Learn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523880" y="1752480"/>
            <a:ext cx="693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stablish learning goals/ objectiv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ue thinking, assess and activate prio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ive questi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on-linguistic represen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operative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enerate and test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vide specific and timely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dentifying similarities and differences 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ummarizing and note taking  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ournaling facilitates reflection and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tacognit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981080" y="6248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laimer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The Rock Cyc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c8004"/>
                </a:solidFill>
                <a:uFillTx/>
                <a:latin typeface="Arial"/>
                <a:ea typeface="Arial"/>
              </a:rPr>
              <a:t>Establish Objective(s)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students can’t hit a target they can’t see - restate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objectives in student friendly langu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enables progress to be track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80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revisit them at the end of the lesson so students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can evaluate their level of mastery in relation to 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c8004"/>
                </a:solidFill>
                <a:latin typeface="Arial"/>
                <a:ea typeface="Arial"/>
              </a:rPr>
              <a:t>the target (Assessment for Learning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" name="Picture 4" descr="C:\Program Files\Microsoft Office\MEDIA\CAGCAT10\j0293844.wmf"/>
          <p:cNvPicPr/>
          <p:nvPr/>
        </p:nvPicPr>
        <p:blipFill>
          <a:blip r:embed="rId1"/>
          <a:stretch/>
        </p:blipFill>
        <p:spPr>
          <a:xfrm>
            <a:off x="3429000" y="472428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Effective questioning </a:t>
            </a:r>
            <a:br>
              <a:rPr sz="4400"/>
            </a:br>
            <a:r>
              <a:rPr b="0" lang="en-US" sz="4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can be used to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pre-assess level of knowled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cue and activate prior knowled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focus lear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maximize student engag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assess mast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uncover misconcep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Picture 2" descr="C:\Users\dockensf\AppData\Local\Microsoft\Windows\Temporary Internet Files\Content.IE5\2LQDLQC3\MCj04344110000[1].wmf"/>
          <p:cNvPicPr/>
          <p:nvPr/>
        </p:nvPicPr>
        <p:blipFill>
          <a:blip r:embed="rId1"/>
          <a:stretch/>
        </p:blipFill>
        <p:spPr>
          <a:xfrm>
            <a:off x="3809880" y="5743440"/>
            <a:ext cx="990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Getting</a:t>
            </a: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c8004"/>
                </a:solidFill>
                <a:latin typeface="Arial"/>
                <a:ea typeface="Arial"/>
              </a:rPr>
              <a:t>to Know You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0" y="12952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4d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00664d"/>
                </a:solidFill>
                <a:latin typeface="Arial"/>
                <a:ea typeface="Arial"/>
              </a:rPr>
              <a:t>It’s in the Bag”-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Decorate the outside of a bag with your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and campus/district/ information and grades/subjects you t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Choose 3 objects from the table or provid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objects that describe you in so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Pair- share explaining what the items repre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66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Partners will introduce each other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briefly share what they learn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Arial"/>
                <a:ea typeface="Arial"/>
              </a:rPr>
              <a:t>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ssess/Activate Prior Knowledge </a:t>
            </a:r>
            <a:br>
              <a:rPr sz="3200"/>
            </a:b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nd Cue Thin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rovides students with a preview of what they will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elps students recall what they already know about 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op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ctivating prior knowledge is critical for learning an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taining new infor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hould focus on information that is essential fo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understanding the concep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n-linguistic Represent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generating mental pictur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using graphic organiz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reating physical mode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drawing pictures and picto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engaging in whole body mov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facilitates building vocabular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omprehension and retention as student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onstruct their own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ea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Cooperative Learn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ssigning roles holds students accountable 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rou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reates positive interdepende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motes interactions and academic discour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vides for group and individual accountabi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groups should be 3-4 stud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hould be applied consistently and systematic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but not overus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includes formal, informal and base group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1270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Provide Feedbac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ocus feedback on specific knowledge and skills and 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vide as soon as possible following the ta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eedback provides students with information that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enables them to determine where they are in relation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o the target (goal or learning objective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hould point out what is correct as well as what is no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tudent initiated feedback is most beneficial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(assessment of learning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ewarding genuine effort has a positive eff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Arial"/>
                <a:ea typeface="Arial"/>
              </a:rPr>
              <a:t>Identifying Similarities and Differenc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omparing important characteristics is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the basis used to identify similarities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and differen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7224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lassifying is the process of grouping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things that are alike on the basis of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7224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creating analogies show how seemingly 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722469"/>
                </a:solidFill>
                <a:latin typeface="Arial"/>
              </a:rPr>
              <a:t>dissimilar things are simil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7"/>
          <p:cNvSpPr/>
          <p:nvPr/>
        </p:nvSpPr>
        <p:spPr>
          <a:xfrm>
            <a:off x="990720" y="68580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and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981080" y="54100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ot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foldable to creat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raphic 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7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  <a:ea typeface="Arial"/>
              </a:rPr>
              <a:t>Summariz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skill that must be taught and practic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hoose information that is essential in order to understand the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discard information that is not essenti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dd or substitute words for clar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Creating a Group Summar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Give each student 3 index cards p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ubtopi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On each card, students write one th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at is important to remember abou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subtopi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tudents share cards, combine statement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comm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dd statements they agree need to b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dd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4d"/>
                </a:solidFill>
                <a:latin typeface="Arial"/>
                <a:ea typeface="Arial"/>
              </a:rPr>
              <a:t>Using Edusmart Science to support inquiry-based, 5E instruction: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78de"/>
                </a:solidFill>
                <a:latin typeface="Arial"/>
                <a:ea typeface="Arial"/>
              </a:rPr>
              <a:t>Force and Mo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99"/>
                </a:solidFill>
                <a:latin typeface="Arial"/>
                <a:ea typeface="Arial"/>
              </a:rPr>
              <a:t>How does this work with 5E?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ngage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xplore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xplain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labor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62699"/>
                </a:solidFill>
                <a:latin typeface="Arial"/>
                <a:ea typeface="Arial"/>
              </a:rPr>
              <a:t>Evalu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Take care of your need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Mute cell phon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Share ideas with the whole group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jot ideas on sticky no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place sticky notes in the “parking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     lot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- notes will be shared following brea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8b"/>
                </a:solidFill>
                <a:latin typeface="Arial"/>
                <a:ea typeface="Arial"/>
              </a:rPr>
              <a:t>Group Norm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c8004"/>
                </a:solidFill>
                <a:uFillTx/>
                <a:latin typeface="Arial"/>
              </a:rPr>
              <a:t>Link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8004"/>
                </a:solidFill>
                <a:latin typeface="Arial"/>
              </a:rPr>
              <a:t>Teaching Academic Vocabulary</a:t>
            </a:r>
            <a:r>
              <a:rPr b="0" lang="en-US" sz="2000" spc="-1" strike="noStrike">
                <a:solidFill>
                  <a:srgbClr val="fc8004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8004"/>
                </a:solidFill>
                <a:latin typeface="Arial"/>
              </a:rPr>
              <a:t>Marzano’s Six Step for Teaching Academic Vocabulary and Games                    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c-schools.net/tutorials/vocab/strategies.htm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Goals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o explore how to successfully address all student learning styles within the same lesson using effective instructional strategies, inquiry-based “hands on activities” and EduSmart Science – a multimedia science resource for grades 3-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o connect science concepts to environmental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1371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verview of Learning Sty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verview of effective instructional strateg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mplement effective strategies and addres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earning styles using Edusmart Scien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me permitting, apply the information presente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 use an Edusmart subtopic to design and present 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“mini-lesson” implementing an effective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instructional strategies and a subtopic fro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ne of the EduSmart Science modu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oor Prizes!!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1447920" y="1219320"/>
            <a:ext cx="61722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A word about Journals</a:t>
            </a:r>
            <a:r>
              <a:rPr b="1" lang="en-US" sz="8000" spc="-1" strike="noStrike">
                <a:solidFill>
                  <a:srgbClr val="00b0f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MCj03974900000[1]"/>
          <p:cNvPicPr/>
          <p:nvPr/>
        </p:nvPicPr>
        <p:blipFill>
          <a:blip r:embed="rId1"/>
          <a:stretch/>
        </p:blipFill>
        <p:spPr>
          <a:xfrm>
            <a:off x="2971800" y="3886200"/>
            <a:ext cx="3429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c8004"/>
                </a:solidFill>
                <a:uFillTx/>
                <a:latin typeface="Arial"/>
                <a:ea typeface="Arial"/>
              </a:rPr>
              <a:t>Learning Styles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What are learning styl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dentify the way a student learns bes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have nothing to do with a student’s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ntelligence or abil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800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describe the way a student’s brain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processes, stores and retrieves 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c8004"/>
                </a:solidFill>
                <a:latin typeface="Arial"/>
                <a:ea typeface="Arial"/>
              </a:rPr>
              <a:t>information most effective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ontent Placeholder 2"/>
          <p:cNvSpPr/>
          <p:nvPr/>
        </p:nvSpPr>
        <p:spPr>
          <a:xfrm>
            <a:off x="114300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actile/ Kinesthe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12193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Three Main Learning Sty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:\Users\dockensf\AppData\Local\Microsoft\Windows\Temporary Internet Files\Content.IE5\S9RIFP0Y\MCHM00051_0000[1].wmf"/>
          <p:cNvPicPr/>
          <p:nvPr/>
        </p:nvPicPr>
        <p:blipFill>
          <a:blip r:embed="rId1"/>
          <a:stretch/>
        </p:blipFill>
        <p:spPr>
          <a:xfrm>
            <a:off x="3886200" y="2057400"/>
            <a:ext cx="1066680" cy="94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 rot="20956200">
            <a:off x="4419720" y="3322800"/>
            <a:ext cx="582480" cy="876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dockensf\AppData\Local\Microsoft\Windows\Temporary Internet Files\Content.IE5\QFR562QU\MPj04332360000[1].jpg"/>
          <p:cNvPicPr/>
          <p:nvPr/>
        </p:nvPicPr>
        <p:blipFill>
          <a:blip r:embed="rId3"/>
          <a:stretch/>
        </p:blipFill>
        <p:spPr>
          <a:xfrm>
            <a:off x="6324480" y="4572000"/>
            <a:ext cx="8683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haracteristics of Visual Learner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earn best by seeing information and can recall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isual detai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member information presented in pictures,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harts, graphs, diagrams, movies,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emonstr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isualize while they are reading and writing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oodle and have difficulty following lectur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nd oral instructions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an remember faces but have difficult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membering na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efer to read silent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ike to write down instru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7" name="Picture 2" descr="C:\Users\dockensf\AppData\Local\Microsoft\Windows\Temporary Internet Files\Content.IE5\S9RIFP0Y\MCHM00051_0000[1].wmf"/>
          <p:cNvPicPr/>
          <p:nvPr/>
        </p:nvPicPr>
        <p:blipFill>
          <a:blip r:embed="rId1"/>
          <a:stretch/>
        </p:blipFill>
        <p:spPr>
          <a:xfrm>
            <a:off x="6095880" y="990720"/>
            <a:ext cx="863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44:49Z</dcterms:created>
  <dc:creator>dockensf</dc:creator>
  <dc:description/>
  <dc:language>en-US</dc:language>
  <cp:lastModifiedBy>dockensf</cp:lastModifiedBy>
  <dcterms:modified xsi:type="dcterms:W3CDTF">2010-07-28T02:23:04Z</dcterms:modified>
  <cp:revision>297</cp:revision>
  <dc:subject/>
  <dc:title>Effectively Differentiate Instruction for  All Learning Styles with EduSmart Science</dc:title>
</cp:coreProperties>
</file>